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977EB-1A70-4101-8C23-FFF21DD931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81E9-D9DE-4F1B-A9C5-C52F62B8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7399-0E10-4630-A927-5D266DBB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BCAE6-BD5E-460C-B943-C1FEBCC743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0730F-EF4F-4DB7-919F-418C7E1A7B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006B6-488A-43D2-973B-FAE279DA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BFD89-7C86-47E8-BA50-31F59D77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EE77B-2FCE-4E69-A0D2-6CBB2535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9BE7A-E6C4-4E9A-9D87-B926BB5B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8B0BB-084B-4A3D-9191-1F382F2C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E2C79-D0C5-47F0-A91D-11C09344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99C83-3502-43A4-8C81-82C23444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EBBD9-2558-4600-A2E0-E67AAB38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FFED5-0BE4-43FF-BC85-BEDB6F27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DCFC0-447B-453E-BA84-E2F2696C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A493A-4E51-4C63-8E2B-30D6132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6812D-B232-4130-852A-95CBF8D69D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95BB-ABE7-4129-ADBC-A5BED571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C0926-C152-4F3B-8492-321A0BE6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334F-334E-4CBF-B67E-0CEE16B8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55AC-B259-445D-AA72-B75FF3BB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92E1-F52B-40B0-9946-5804BFF6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96EF-2130-4017-BEE8-E611E650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4B5A-B673-4100-97DD-46BB1437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477120"/>
            <a:ext cx="3505320" cy="3794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02480"/>
            <a:ext cx="4332600" cy="109080"/>
            <a:chOff x="4538520" y="6702480"/>
            <a:chExt cx="4332600" cy="109080"/>
          </a:xfrm>
        </p:grpSpPr>
        <p:sp>
          <p:nvSpPr>
            <p:cNvPr id="3" name=""/>
            <p:cNvSpPr/>
            <p:nvPr/>
          </p:nvSpPr>
          <p:spPr>
            <a:xfrm>
              <a:off x="4538520" y="6702480"/>
              <a:ext cx="66960" cy="109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02480"/>
              <a:ext cx="66600" cy="109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02480"/>
              <a:ext cx="65160" cy="109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02480"/>
              <a:ext cx="65160" cy="109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02480"/>
              <a:ext cx="66600" cy="109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02480"/>
              <a:ext cx="66600" cy="109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02480"/>
              <a:ext cx="66960" cy="109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02480"/>
              <a:ext cx="65160" cy="10908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762120" y="250920"/>
            <a:ext cx="8380440" cy="12729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04960" y="73080"/>
            <a:ext cx="66600" cy="1112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04960" y="303120"/>
            <a:ext cx="66600" cy="10980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04960" y="530280"/>
            <a:ext cx="66600" cy="1094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F5F5-2672-4278-9AE6-10BFEC42E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rcRect l="1886" t="18999" r="84769" b="76291"/>
          <a:stretch/>
        </p:blipFill>
        <p:spPr>
          <a:xfrm>
            <a:off x="698400" y="654048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>
            <a:off x="2209680" y="6616800"/>
            <a:ext cx="2210040" cy="241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0657-0018-4C92-9C33-FC2AB6102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47560" y="2260440"/>
            <a:ext cx="69339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698400" y="655308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09680" y="6616800"/>
            <a:ext cx="2286000" cy="241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6840" y="161244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7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CONSTRUYENDO EL FLUJO DE FON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2.- FUENTES DE FONDOS OPER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 la variación que experimentan los P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siv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Circulante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de la operación (sin considerar bancos) d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urante dos perío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Si la variación es negativa es un Uso de Fon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61280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EJEMPLO - FUENTES OPER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Aumento Crédito Proveedores    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Disminución Provisiones</a:t>
            </a:r>
            <a:r>
              <a:rPr b="1" lang="es-ES_tradnl" sz="2400" spc="-1" strike="noStrike">
                <a:solidFill>
                  <a:srgbClr val="ffff00"/>
                </a:solidFill>
                <a:latin typeface="Bookman Old Style"/>
              </a:rPr>
              <a:t> 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58c3d"/>
                </a:solidFill>
                <a:latin typeface="Bookman Old Style"/>
              </a:rPr>
              <a:t>$ 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Aumento Otros Pas. Circ.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9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Fuentes Operacionales de Caja</a:t>
            </a:r>
            <a:r>
              <a:rPr b="1" lang="es-ES_tradnl" sz="2400" spc="-1" strike="noStrike">
                <a:solidFill>
                  <a:srgbClr val="b1e61a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b1e61a"/>
                </a:solidFill>
                <a:latin typeface="Bookman Old Style"/>
              </a:rPr>
              <a:t>$    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1612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EJEMPLO - GENERACIÓN NE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Generación Bruta de Caja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  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sos Operacionales de Caja</a:t>
            </a:r>
            <a:r>
              <a:rPr b="1" lang="es-ES_tradnl" sz="2400" spc="-1" strike="noStrike">
                <a:solidFill>
                  <a:srgbClr val="ffff00"/>
                </a:solidFill>
                <a:latin typeface="Bookman Old Style"/>
              </a:rPr>
              <a:t>         </a:t>
            </a:r>
            <a:r>
              <a:rPr b="1" lang="es-ES_tradnl" sz="2400" spc="-1" strike="noStrike">
                <a:solidFill>
                  <a:srgbClr val="f58c3d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58c3d"/>
                </a:solidFill>
                <a:latin typeface="Bookman Old Style"/>
              </a:rPr>
              <a:t>$    400</a:t>
            </a:r>
            <a:r>
              <a:rPr b="1" lang="es-ES_tradnl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Fuentes Operacionales de Caja   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   3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Generación Neta de Caja</a:t>
            </a:r>
            <a:r>
              <a:rPr b="1" lang="es-ES_tradnl" sz="2400" spc="-1" strike="noStrike">
                <a:solidFill>
                  <a:srgbClr val="b1e61a"/>
                </a:solidFill>
                <a:latin typeface="Bookman Old Style"/>
              </a:rPr>
              <a:t>         </a:t>
            </a:r>
            <a:r>
              <a:rPr b="1" lang="es-ES_tradnl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b1e61a"/>
                </a:solidFill>
                <a:latin typeface="Bookman Old Style"/>
              </a:rPr>
              <a:t>$    500</a:t>
            </a:r>
            <a:r>
              <a:rPr b="1" lang="es-ES_tradnl" sz="2400" spc="-1" strike="noStrike">
                <a:solidFill>
                  <a:srgbClr val="ff9933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04560" y="16124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CONSTRUYENDO EL FLUJO DE FON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3.- USOS NO OPER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 la variación positiva que experimentan l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ctivos Fijos Neto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y Otros Activos fuera de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peración d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urante dos perío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Si la variación es negativa es una Fuente de Fon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612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EJEMPLO - USOS NO OPER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Aumento Activos Fijos Netos    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  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Disminución Inv. otras Empr.</a:t>
            </a:r>
            <a:r>
              <a:rPr b="1" lang="es-ES_tradnl" sz="24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24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58c3d"/>
                </a:solidFill>
                <a:latin typeface="Bookman Old Style"/>
              </a:rPr>
              <a:t>$   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Aumento otros Act. Fijos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1e61a"/>
                </a:solidFill>
                <a:latin typeface="Bookman Old Style"/>
              </a:rPr>
              <a:t>USOS NO OPERACIONALES DE CAJA </a:t>
            </a:r>
            <a:r>
              <a:rPr b="1" lang="es-ES_tradnl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b1e61a"/>
                </a:solidFill>
                <a:latin typeface="Bookman Old Style"/>
              </a:rPr>
              <a:t>$   1.900</a:t>
            </a:r>
            <a:r>
              <a:rPr b="1" lang="es-ES_tradnl" sz="2400" spc="-1" strike="noStrike">
                <a:solidFill>
                  <a:srgbClr val="b1e61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6257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044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7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CONSTRUYENDO EL FLUJO DE FONDOS</a:t>
            </a:r>
            <a:r>
              <a:rPr b="1" lang="en-US" sz="3200" spc="-1" strike="noStrike">
                <a:solidFill>
                  <a:srgbClr val="b1e61a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0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3.- FUENTES NO OPER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 la variación positiva que experimentan l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Pasivos de Largo Plazo y el Patrimonio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(s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nsiderar el resultado)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durante dos perío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Si la variación es negativa es un Uso de Fon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57464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JEMPLO - FUENTES NO OPER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umento Créditos Largo Plazo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$   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isminución Provisiones L.P.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        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</a:t>
            </a:r>
            <a:r>
              <a:rPr b="1" lang="en-US" sz="2400" spc="-1" strike="noStrike">
                <a:solidFill>
                  <a:srgbClr val="f58c3d"/>
                </a:solidFill>
                <a:latin typeface="Bookman Old Style"/>
              </a:rPr>
              <a:t>$      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umento Patrimonio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$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Fuentes No Operacionales de Caja $ 1.100</a:t>
            </a:r>
            <a:r>
              <a:rPr b="1" lang="en-US" sz="2800" spc="-1" strike="noStrike">
                <a:solidFill>
                  <a:srgbClr val="33cc33"/>
                </a:solidFill>
                <a:latin typeface="Bookman Old Styl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86660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CONSTRUYENDO EL FLUJO DE FON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Generación Bruta de C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- Usos Oper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+ Fuentes Oper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= Generación Neta de C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- Usos No Oper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+ Fuentes No Oper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= Variación de C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80880" y="162576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JEMPLO - FLUJO DE FON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Generación Neta de Caja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sos No Operacionales de Caja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58c3d"/>
                </a:solidFill>
                <a:latin typeface="Bookman Old Style"/>
              </a:rPr>
              <a:t>$ 1.900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uentes No Operacionales de Caja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1.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Variación de Caja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58c3d"/>
                </a:solidFill>
                <a:latin typeface="Bookman Old Style"/>
              </a:rPr>
              <a:t>$    300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838080"/>
            <a:ext cx="8610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Bookman Old Style"/>
              </a:rPr>
              <a:t>    </a:t>
            </a:r>
            <a:r>
              <a:rPr b="1" lang="es-ES_tradnl" sz="4000" spc="-1" strike="noStrike">
                <a:solidFill>
                  <a:srgbClr val="b1e61a"/>
                </a:solidFill>
                <a:latin typeface="Bookman Old Style"/>
              </a:rPr>
              <a:t>FINANZAS EMPRESAR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ookman Old Style"/>
              </a:rPr>
              <a:t>es un aporte 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al desarrollo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la mediana y pequeña empresa de Chile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3200400" y="3809880"/>
            <a:ext cx="2590920" cy="574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95480" y="2895480"/>
            <a:ext cx="32004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ww.asesoriasonline.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612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52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QUÉ ES EL FLUJO DE FONDO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 la Generación de efectivo de la empresa, s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rigen y desti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652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SE CONTROLA ESTE FLUJ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n el Estado de Generación de Fon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QUÉ COMPONE EL FLUJO DE FONDO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.- La Generación Bruta de Caj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2.- Los Usos y Fuentes Operativ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3.- Los Usos y Fuentes no Operativ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27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CONSTRUYENDO EL FLUJO DE FON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1.- GENERACIÓN BRUTA DE C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 el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Resultado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de la Empresa menos el Impacto de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Movimientos que no son Flujo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de Fondos de Efectivo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tales como la Depreciación, la Corrección Monetaria y la Amortización de Gastos que estaban activ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587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EJEMPLO - GENERACIÓN BRU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Resultado del Período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   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Depreciación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Corrección Monetaria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$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Generación Bruta de Caja</a:t>
            </a: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$    600</a:t>
            </a:r>
            <a:r>
              <a:rPr b="1" lang="es-ES_tradnl" sz="28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CONCEPTOS DE USOS Y FUENTES DE FONDOS ENTRE DOS PERÍO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USO DE FONDOS: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umento de un activo 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isminución de un pas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FUENTE DE FONDOS: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umento de un pasiv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 disminución de un ac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161280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CONSTRUYENDO EL FLUJO DE FON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2.- USOS DE FONDOS OPER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 la variación que experimentan los A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Circulante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de la operación (sin considerar caj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durante dos perío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Si la variación es negativa es una Fuente de fon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612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27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JEMPLO - USOS OPER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umento Crédito a Cliente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isminución de Inventario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58c3d"/>
                </a:solidFill>
                <a:latin typeface="Bookman Old Style"/>
              </a:rPr>
              <a:t>$ 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umento Otros Act. Circ.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Usos Operacionales de Caja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$    400</a:t>
            </a:r>
            <a:r>
              <a:rPr b="1" lang="en-US" sz="2400" spc="-1" strike="noStrike">
                <a:solidFill>
                  <a:srgbClr val="33cc33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17:46:52Z</dcterms:created>
  <dc:creator>Ricardo Almazán</dc:creator>
  <dc:description/>
  <dc:language>en-US</dc:language>
  <cp:lastModifiedBy>Oscar Vaquero</cp:lastModifiedBy>
  <dcterms:modified xsi:type="dcterms:W3CDTF">2001-07-19T21:03:45Z</dcterms:modified>
  <cp:revision>45</cp:revision>
  <dc:subject/>
  <dc:title>Sin título de diapositiva</dc:title>
</cp:coreProperties>
</file>